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C6C8-3D7E-4C72-BB29-B3137F78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F4C-AC83-43B7-88D3-9DFDAF2D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800-5141-4915-9545-77A0A882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CD66-1DB2-44DD-B88F-9B2447A2A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A0A-1EB2-427C-8473-39F1B119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AC6-65C8-4AE6-A9B1-EB12655B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F8E-9E3C-4535-9E48-7A4AD7EF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E29-DE82-4CDD-9F44-A945CBF8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C5FC-A29A-497B-8264-09317235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12F-A356-4967-9E56-8ACE4668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150F-07CE-41DF-9FBF-D46D07D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253-DD81-41D3-BC40-5450E7D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C8C4-95B4-446E-9C45-46E51A8A9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17720" y="1600200"/>
            <a:ext cx="291600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208480" y="160020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78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96000" y="33336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796000" y="4508640"/>
            <a:ext cx="291780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987640" y="2276640"/>
            <a:ext cx="29163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09:50:53Z</dcterms:created>
  <dc:creator>01690112</dc:creator>
  <dc:description/>
  <dc:language>en-US</dc:language>
  <cp:lastModifiedBy>01690112</cp:lastModifiedBy>
  <dcterms:modified xsi:type="dcterms:W3CDTF">2009-07-21T09:53:41Z</dcterms:modified>
  <cp:revision>2</cp:revision>
  <dc:subject/>
  <dc:title>Slide 1</dc:title>
</cp:coreProperties>
</file>